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724D2E-90BF-4B81-AF96-05B0CC45DBE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C0AAE2-B104-4D4F-BEA0-E2ABEB351E0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FC0DA8-E2E5-435A-885B-6B3D74637E5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38D005-EE70-40CC-A6A6-B203A7EAB50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8D8F75-2123-4B8C-825C-81F54CECA8F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FC4905A-E60F-4794-82FE-12AAE35EB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F404216-1B83-429F-A373-7FAF8FA79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429AACA-8595-4946-83AE-8CD9BFC8586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8F31E0F-E6AC-485D-8E1C-10467E308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2124053-A02D-422F-98CC-627D4248F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D8710B9-4557-41CD-85A0-7AF640138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1CD3CA6-514C-4817-AD84-826999873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A6B12D1-D83E-4587-BC6B-38B621ECC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2176F02-6809-46C0-BC3F-A29AB8C9B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5A211D-3720-4CD3-A98E-96C9DBCFF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BDA1693-0B1F-41BA-9F16-4158A4DC7B8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CD6038-8356-4A4F-AB8E-57A765E3DD59}"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28760" y="5786280"/>
            <a:ext cx="3786120" cy="857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2400" spc="-1" strike="noStrike">
                <a:solidFill>
                  <a:srgbClr val="002060"/>
                </a:solidFill>
                <a:latin typeface="Tahoma"/>
                <a:ea typeface="Tahoma"/>
              </a:rPr>
              <a:t>Name of presentation</a:t>
            </a:r>
            <a:endParaRPr b="0" lang="en-US" sz="2400" spc="-1" strike="noStrike">
              <a:solidFill>
                <a:srgbClr val="000000"/>
              </a:solidFill>
              <a:latin typeface="Arial"/>
            </a:endParaRPr>
          </a:p>
          <a:p>
            <a:pPr>
              <a:lnSpc>
                <a:spcPct val="8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1800" spc="-1" strike="noStrike">
                <a:solidFill>
                  <a:srgbClr val="002060"/>
                </a:solidFill>
                <a:latin typeface="Tahoma"/>
                <a:ea typeface="Tahoma"/>
              </a:rPr>
              <a:t>Company nam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43000" y="271476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1" name=""/>
          <p:cNvSpPr/>
          <p:nvPr/>
        </p:nvSpPr>
        <p:spPr>
          <a:xfrm>
            <a:off x="1500120" y="2071800"/>
            <a:ext cx="6215040" cy="785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Second Pag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00160" y="185724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3" name=""/>
          <p:cNvSpPr/>
          <p:nvPr/>
        </p:nvSpPr>
        <p:spPr>
          <a:xfrm>
            <a:off x="2357280" y="571680"/>
            <a:ext cx="62154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Print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20:55Z</dcterms:created>
  <dc:creator>EF</dc:creator>
  <dc:description/>
  <dc:language>en-US</dc:language>
  <cp:lastModifiedBy>EF</cp:lastModifiedBy>
  <dcterms:modified xsi:type="dcterms:W3CDTF">2008-11-03T02:55:09Z</dcterms:modified>
  <cp:revision>5</cp:revision>
  <dc:subject/>
  <dc:title>Slide 1</dc:title>
</cp:coreProperties>
</file>